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7304088" cy="9590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3E93C-07A0-40ED-AC1B-1C1CF1886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440" y="76320"/>
            <a:ext cx="80773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040" y="1142640"/>
            <a:ext cx="8001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040" y="3928680"/>
            <a:ext cx="8001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09C21-1EEC-4A84-8630-2C6E6839F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440" y="76320"/>
            <a:ext cx="80773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040" y="1142640"/>
            <a:ext cx="3904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13720" y="1142640"/>
            <a:ext cx="3904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040" y="3928680"/>
            <a:ext cx="3904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13720" y="3928680"/>
            <a:ext cx="3904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1870F-2AD9-4BCD-996A-3D28635F1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440" y="76320"/>
            <a:ext cx="80773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040" y="1142640"/>
            <a:ext cx="25761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19440" y="1142640"/>
            <a:ext cx="25761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4840" y="1142640"/>
            <a:ext cx="25761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040" y="3928680"/>
            <a:ext cx="25761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19440" y="3928680"/>
            <a:ext cx="25761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4840" y="3928680"/>
            <a:ext cx="25761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9456F-D730-41D7-BD84-FD4398A20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F0CB7-1BE7-4DA2-B711-260D2815A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76320"/>
            <a:ext cx="80773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914040" y="1142640"/>
            <a:ext cx="80010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B7525-3DCF-4404-8F0D-5ADF01EB4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76320"/>
            <a:ext cx="80773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14040" y="1142640"/>
            <a:ext cx="8001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A61BB-2384-4193-857B-264E295C7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76320"/>
            <a:ext cx="80773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040" y="1142640"/>
            <a:ext cx="39042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13720" y="1142640"/>
            <a:ext cx="39042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FFD95-7EAF-456B-8A3D-A550219EF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76320"/>
            <a:ext cx="80773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7D68B-3611-4AC5-8CA8-AF44FEF06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440" y="76320"/>
            <a:ext cx="807732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DCD49-117E-4CA4-9D50-75FFBB666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440" y="76320"/>
            <a:ext cx="80773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040" y="1142640"/>
            <a:ext cx="3904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13720" y="1142640"/>
            <a:ext cx="39042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14040" y="3928680"/>
            <a:ext cx="3904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E59B8-0A58-4051-BF3C-9CDAB1D2F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440" y="76320"/>
            <a:ext cx="80773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040" y="1142640"/>
            <a:ext cx="80010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DC0C2-F02B-48C9-BE81-B8FD21C52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76320"/>
            <a:ext cx="80773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040" y="1142640"/>
            <a:ext cx="39042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13720" y="1142640"/>
            <a:ext cx="3904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013720" y="3928680"/>
            <a:ext cx="3904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68802-48E0-41D1-A748-5351BE6AD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440" y="76320"/>
            <a:ext cx="80773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040" y="1142640"/>
            <a:ext cx="3904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013720" y="1142640"/>
            <a:ext cx="3904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040" y="3928680"/>
            <a:ext cx="8001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37DA5-A0FC-4444-9F8E-8AC4DFB5C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440" y="76320"/>
            <a:ext cx="80773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040" y="1142640"/>
            <a:ext cx="8001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914040" y="3928680"/>
            <a:ext cx="8001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506D5-D17B-4CA9-B216-3101A11BB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76320"/>
            <a:ext cx="80773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14040" y="1142640"/>
            <a:ext cx="3904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013720" y="1142640"/>
            <a:ext cx="3904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914040" y="3928680"/>
            <a:ext cx="3904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013720" y="3928680"/>
            <a:ext cx="3904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3B450-74DD-435E-88B8-45EFBE628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440" y="76320"/>
            <a:ext cx="80773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040" y="1142640"/>
            <a:ext cx="25761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619440" y="1142640"/>
            <a:ext cx="25761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324840" y="1142640"/>
            <a:ext cx="25761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914040" y="3928680"/>
            <a:ext cx="25761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619440" y="3928680"/>
            <a:ext cx="25761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324840" y="3928680"/>
            <a:ext cx="25761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34BEE-DA30-4DE4-B6E9-EA68BB587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440" y="76320"/>
            <a:ext cx="80773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040" y="1142640"/>
            <a:ext cx="8001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6F2E7-2420-4B31-AB9A-F865EA648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76320"/>
            <a:ext cx="80773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040" y="1142640"/>
            <a:ext cx="39042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13720" y="1142640"/>
            <a:ext cx="39042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BC627-9C1A-4050-9837-547F48342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76320"/>
            <a:ext cx="80773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F4AF6-7A94-4C47-A37A-65BD219D3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440" y="76320"/>
            <a:ext cx="807732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4773E-BE94-40E7-BBC4-653770DD8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440" y="76320"/>
            <a:ext cx="80773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040" y="1142640"/>
            <a:ext cx="3904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13720" y="1142640"/>
            <a:ext cx="39042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040" y="3928680"/>
            <a:ext cx="3904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2F4B2-7A27-44B1-B38A-BDE5BD6C6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440" y="76320"/>
            <a:ext cx="80773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040" y="1142640"/>
            <a:ext cx="39042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13720" y="1142640"/>
            <a:ext cx="3904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13720" y="3928680"/>
            <a:ext cx="3904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6EB17-1ED8-407E-8354-EC2771A13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440" y="76320"/>
            <a:ext cx="80773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040" y="1142640"/>
            <a:ext cx="3904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13720" y="1142640"/>
            <a:ext cx="3904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040" y="3928680"/>
            <a:ext cx="8001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92A84-8E9C-49A2-8B98-5BBC3A31B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685800" cy="6858000"/>
          </a:xfrm>
          <a:prstGeom prst="rect">
            <a:avLst/>
          </a:prstGeom>
          <a:solidFill>
            <a:srgbClr val="66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1066680" cy="1219320"/>
          </a:xfrm>
          <a:prstGeom prst="rect">
            <a:avLst/>
          </a:prstGeom>
          <a:solidFill>
            <a:srgbClr val="66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66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440" y="76320"/>
            <a:ext cx="80773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933960" y="6550560"/>
            <a:ext cx="19047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C5B26-47DF-457A-9060-6BBFC48049DB}" type="slidenum">
              <a:rPr b="0" lang="de-DE" sz="14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761760" y="6611400"/>
            <a:ext cx="2895480" cy="2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3880" y="6251400"/>
            <a:ext cx="58716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7A482-853D-403B-8612-36A6EFC14D57}" type="slidenum">
              <a:rPr b="1" lang="de-DE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914400"/>
            <a:ext cx="60948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body"/>
          </p:nvPr>
        </p:nvSpPr>
        <p:spPr>
          <a:xfrm>
            <a:off x="914040" y="1142640"/>
            <a:ext cx="8001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3366"/>
              </a:buClr>
              <a:buSzPct val="80000"/>
              <a:buFont typeface="Arial"/>
              <a:buChar char="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227600" y="2122920"/>
            <a:ext cx="3055680" cy="613440"/>
          </a:xfrm>
          <a:prstGeom prst="rect">
            <a:avLst/>
          </a:prstGeom>
          <a:solidFill>
            <a:srgbClr val="66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800" spc="-1" strike="noStrike">
                <a:solidFill>
                  <a:srgbClr val="ffffff"/>
                </a:solidFill>
                <a:latin typeface="Arial"/>
              </a:rPr>
              <a:t>Bern University of Applied Sciences</a:t>
            </a: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700" spc="-1" strike="noStrike">
                <a:solidFill>
                  <a:srgbClr val="ffffff"/>
                </a:solidFill>
                <a:latin typeface="Arial"/>
              </a:rPr>
              <a:t>Engineering and Information Technology</a:t>
            </a:r>
            <a:endParaRPr b="0" lang="en-US" sz="7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700" spc="-1" strike="noStrike">
                <a:solidFill>
                  <a:srgbClr val="ffffff"/>
                </a:solidFill>
                <a:latin typeface="Arial"/>
              </a:rPr>
              <a:t>Electrical- and Communication Engineering</a:t>
            </a:r>
            <a:endParaRPr b="0" lang="en-US" sz="7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" name="" descr=""/>
          <p:cNvPicPr/>
          <p:nvPr/>
        </p:nvPicPr>
        <p:blipFill>
          <a:blip r:embed="rId2"/>
          <a:srcRect l="0" t="77518" r="0" b="0"/>
          <a:stretch/>
        </p:blipFill>
        <p:spPr>
          <a:xfrm>
            <a:off x="0" y="3968640"/>
            <a:ext cx="622440" cy="1901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0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sldNum" idx="6"/>
          </p:nvPr>
        </p:nvSpPr>
        <p:spPr>
          <a:xfrm>
            <a:off x="9360" y="5962320"/>
            <a:ext cx="587520" cy="8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7A82E-C11D-4EAF-87C4-1F8C0FCBCB5C}" type="slidenum">
              <a:rPr b="1" lang="de-DE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440" y="76320"/>
            <a:ext cx="80773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Arial"/>
              </a:rPr>
              <a:t>Smith-Char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2071800" y="966960"/>
          <a:ext cx="5868720" cy="586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71800" y="966960"/>
                    <a:ext cx="5868720" cy="586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" name=""/>
          <p:cNvSpPr/>
          <p:nvPr/>
        </p:nvSpPr>
        <p:spPr>
          <a:xfrm>
            <a:off x="3605760" y="2681280"/>
            <a:ext cx="279144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4400" spc="-1" strike="noStrike">
                <a:solidFill>
                  <a:srgbClr val="006666"/>
                </a:solidFill>
                <a:latin typeface="Arial"/>
              </a:rPr>
              <a:t>Example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70120" y="5935680"/>
            <a:ext cx="205056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006666"/>
                </a:solidFill>
                <a:latin typeface="Arial"/>
              </a:rPr>
              <a:t>Prof. F. Dellsperger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55560" y="3867120"/>
            <a:ext cx="334908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4400" spc="-1" strike="noStrike">
                <a:solidFill>
                  <a:srgbClr val="006666"/>
                </a:solidFill>
                <a:latin typeface="Arial"/>
              </a:rPr>
              <a:t>Smith Chart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" name="">
            <a:hlinkClick r:id="" action="ppaction://hlinkshowjump?jump=nextslide"/>
          </p:cNvPr>
          <p:cNvSpPr/>
          <p:nvPr/>
        </p:nvSpPr>
        <p:spPr>
          <a:xfrm>
            <a:off x="8607600" y="6480000"/>
            <a:ext cx="536400" cy="378000"/>
          </a:xfrm>
          <a:custGeom>
            <a:avLst/>
            <a:gdLst>
              <a:gd name="textAreaLeft" fmla="*/ 24480 w 536400"/>
              <a:gd name="textAreaRight" fmla="*/ 511920 w 536400"/>
              <a:gd name="textAreaTop" fmla="*/ 24480 h 378000"/>
              <a:gd name="textAreaBottom" fmla="*/ 353520 h 378000"/>
            </a:gdLst>
            <a:ahLst/>
            <a:rect l="textAreaLeft" t="textAreaTop" r="textAreaRight" b="textAreaBottom"/>
            <a:pathLst>
              <a:path w="30643" h="21600">
                <a:moveTo>
                  <a:pt x="0" y="0"/>
                </a:moveTo>
                <a:lnTo>
                  <a:pt x="30643" y="0"/>
                </a:lnTo>
                <a:lnTo>
                  <a:pt x="30643" y="21600"/>
                </a:lnTo>
                <a:lnTo>
                  <a:pt x="0" y="21600"/>
                </a:lnTo>
                <a:close/>
              </a:path>
              <a:path fill="lightenLess" w="30643" h="21600">
                <a:moveTo>
                  <a:pt x="0" y="0"/>
                </a:moveTo>
                <a:lnTo>
                  <a:pt x="30643" y="0"/>
                </a:lnTo>
                <a:lnTo>
                  <a:pt x="29243" y="1400"/>
                </a:lnTo>
                <a:lnTo>
                  <a:pt x="1400" y="1400"/>
                </a:lnTo>
                <a:close/>
              </a:path>
              <a:path fill="darken" w="30643" h="21600">
                <a:moveTo>
                  <a:pt x="30643" y="0"/>
                </a:moveTo>
                <a:lnTo>
                  <a:pt x="30643" y="21600"/>
                </a:lnTo>
                <a:lnTo>
                  <a:pt x="29243" y="20200"/>
                </a:lnTo>
                <a:lnTo>
                  <a:pt x="29243" y="1400"/>
                </a:lnTo>
                <a:close/>
              </a:path>
              <a:path fill="darkenLess" w="30643" h="21600">
                <a:moveTo>
                  <a:pt x="306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243" y="20200"/>
                </a:lnTo>
                <a:close/>
              </a:path>
              <a:path fill="lighten" w="306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643" h="21600">
                <a:moveTo>
                  <a:pt x="8315" y="3794"/>
                </a:moveTo>
                <a:lnTo>
                  <a:pt x="22328" y="10800"/>
                </a:lnTo>
                <a:lnTo>
                  <a:pt x="8315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A0F88-AD55-4AF6-98C6-FE3E5CD4369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76320"/>
            <a:ext cx="80773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Arial"/>
              </a:rPr>
              <a:t>Smith-Char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013280" y="1727280"/>
            <a:ext cx="5130720" cy="513072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851040" y="1025640"/>
            <a:ext cx="797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Example 1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">
            <a:hlinkClick r:id="" action="ppaction://hlinkshowjump?jump=nextslide"/>
          </p:cNvPr>
          <p:cNvSpPr/>
          <p:nvPr/>
        </p:nvSpPr>
        <p:spPr>
          <a:xfrm>
            <a:off x="8607600" y="6480000"/>
            <a:ext cx="536400" cy="378000"/>
          </a:xfrm>
          <a:custGeom>
            <a:avLst/>
            <a:gdLst>
              <a:gd name="textAreaLeft" fmla="*/ 24480 w 536400"/>
              <a:gd name="textAreaRight" fmla="*/ 511920 w 536400"/>
              <a:gd name="textAreaTop" fmla="*/ 24480 h 378000"/>
              <a:gd name="textAreaBottom" fmla="*/ 353520 h 378000"/>
            </a:gdLst>
            <a:ahLst/>
            <a:rect l="textAreaLeft" t="textAreaTop" r="textAreaRight" b="textAreaBottom"/>
            <a:pathLst>
              <a:path w="30643" h="21600">
                <a:moveTo>
                  <a:pt x="0" y="0"/>
                </a:moveTo>
                <a:lnTo>
                  <a:pt x="30643" y="0"/>
                </a:lnTo>
                <a:lnTo>
                  <a:pt x="30643" y="21600"/>
                </a:lnTo>
                <a:lnTo>
                  <a:pt x="0" y="21600"/>
                </a:lnTo>
                <a:close/>
              </a:path>
              <a:path fill="lightenLess" w="30643" h="21600">
                <a:moveTo>
                  <a:pt x="0" y="0"/>
                </a:moveTo>
                <a:lnTo>
                  <a:pt x="30643" y="0"/>
                </a:lnTo>
                <a:lnTo>
                  <a:pt x="29243" y="1400"/>
                </a:lnTo>
                <a:lnTo>
                  <a:pt x="1400" y="1400"/>
                </a:lnTo>
                <a:close/>
              </a:path>
              <a:path fill="darken" w="30643" h="21600">
                <a:moveTo>
                  <a:pt x="30643" y="0"/>
                </a:moveTo>
                <a:lnTo>
                  <a:pt x="30643" y="21600"/>
                </a:lnTo>
                <a:lnTo>
                  <a:pt x="29243" y="20200"/>
                </a:lnTo>
                <a:lnTo>
                  <a:pt x="29243" y="1400"/>
                </a:lnTo>
                <a:close/>
              </a:path>
              <a:path fill="darkenLess" w="30643" h="21600">
                <a:moveTo>
                  <a:pt x="306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243" y="20200"/>
                </a:lnTo>
                <a:close/>
              </a:path>
              <a:path fill="lighten" w="306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643" h="21600">
                <a:moveTo>
                  <a:pt x="8315" y="3794"/>
                </a:moveTo>
                <a:lnTo>
                  <a:pt x="22328" y="10800"/>
                </a:lnTo>
                <a:lnTo>
                  <a:pt x="8315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322280" y="1738440"/>
            <a:ext cx="18432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39880" y="1364040"/>
            <a:ext cx="763092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Arial"/>
              </a:rPr>
              <a:t>Design a LC Pi-Lowpass network to match an impedance of (30+j10)</a:t>
            </a:r>
            <a:r>
              <a:rPr b="1" lang="el-GR" sz="1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1" lang="de-CH" sz="1800" spc="-1" strike="noStrike">
                <a:solidFill>
                  <a:srgbClr val="000000"/>
                </a:solidFill>
                <a:latin typeface="Arial"/>
              </a:rPr>
              <a:t> to 50</a:t>
            </a:r>
            <a:r>
              <a:rPr b="1" lang="de-CH" sz="1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1" lang="de-CH" sz="1800" spc="-1" strike="noStrike">
                <a:solidFill>
                  <a:srgbClr val="000000"/>
                </a:solidFill>
                <a:latin typeface="Arial"/>
              </a:rPr>
              <a:t>. Frequency = 470 MHz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816120" y="4456080"/>
            <a:ext cx="3452760" cy="1727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D3CB7-4B62-42B1-9844-096F4A2FC8D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440" y="76320"/>
            <a:ext cx="80773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Arial"/>
              </a:rPr>
              <a:t>Smith-Char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743040" y="4308480"/>
            <a:ext cx="3497040" cy="196704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851040" y="1025640"/>
            <a:ext cx="797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Example 2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9" name="">
            <a:hlinkClick r:id="" action="ppaction://hlinkshowjump?jump=nextslide"/>
          </p:cNvPr>
          <p:cNvSpPr/>
          <p:nvPr/>
        </p:nvSpPr>
        <p:spPr>
          <a:xfrm>
            <a:off x="8607600" y="6480000"/>
            <a:ext cx="536400" cy="378000"/>
          </a:xfrm>
          <a:custGeom>
            <a:avLst/>
            <a:gdLst>
              <a:gd name="textAreaLeft" fmla="*/ 24480 w 536400"/>
              <a:gd name="textAreaRight" fmla="*/ 511920 w 536400"/>
              <a:gd name="textAreaTop" fmla="*/ 24480 h 378000"/>
              <a:gd name="textAreaBottom" fmla="*/ 353520 h 378000"/>
            </a:gdLst>
            <a:ahLst/>
            <a:rect l="textAreaLeft" t="textAreaTop" r="textAreaRight" b="textAreaBottom"/>
            <a:pathLst>
              <a:path w="30643" h="21600">
                <a:moveTo>
                  <a:pt x="0" y="0"/>
                </a:moveTo>
                <a:lnTo>
                  <a:pt x="30643" y="0"/>
                </a:lnTo>
                <a:lnTo>
                  <a:pt x="30643" y="21600"/>
                </a:lnTo>
                <a:lnTo>
                  <a:pt x="0" y="21600"/>
                </a:lnTo>
                <a:close/>
              </a:path>
              <a:path fill="lightenLess" w="30643" h="21600">
                <a:moveTo>
                  <a:pt x="0" y="0"/>
                </a:moveTo>
                <a:lnTo>
                  <a:pt x="30643" y="0"/>
                </a:lnTo>
                <a:lnTo>
                  <a:pt x="29243" y="1400"/>
                </a:lnTo>
                <a:lnTo>
                  <a:pt x="1400" y="1400"/>
                </a:lnTo>
                <a:close/>
              </a:path>
              <a:path fill="darken" w="30643" h="21600">
                <a:moveTo>
                  <a:pt x="30643" y="0"/>
                </a:moveTo>
                <a:lnTo>
                  <a:pt x="30643" y="21600"/>
                </a:lnTo>
                <a:lnTo>
                  <a:pt x="29243" y="20200"/>
                </a:lnTo>
                <a:lnTo>
                  <a:pt x="29243" y="1400"/>
                </a:lnTo>
                <a:close/>
              </a:path>
              <a:path fill="darkenLess" w="30643" h="21600">
                <a:moveTo>
                  <a:pt x="306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243" y="20200"/>
                </a:lnTo>
                <a:close/>
              </a:path>
              <a:path fill="lighten" w="306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643" h="21600">
                <a:moveTo>
                  <a:pt x="8315" y="3794"/>
                </a:moveTo>
                <a:lnTo>
                  <a:pt x="22328" y="10800"/>
                </a:lnTo>
                <a:lnTo>
                  <a:pt x="8315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322280" y="1738440"/>
            <a:ext cx="18432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58960" y="1406160"/>
            <a:ext cx="76309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Arial"/>
              </a:rPr>
              <a:t>Design a matching network to match an impedance of (30+j10)</a:t>
            </a:r>
            <a:r>
              <a:rPr b="1" lang="el-GR" sz="1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1" lang="de-CH" sz="1800" spc="-1" strike="noStrike">
                <a:solidFill>
                  <a:srgbClr val="000000"/>
                </a:solidFill>
                <a:latin typeface="Arial"/>
              </a:rPr>
              <a:t> to 50</a:t>
            </a:r>
            <a:r>
              <a:rPr b="1" lang="de-CH" sz="1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1" lang="de-CH" sz="1800" spc="-1" strike="noStrike">
                <a:solidFill>
                  <a:srgbClr val="000000"/>
                </a:solidFill>
                <a:latin typeface="Arial"/>
              </a:rPr>
              <a:t>. Frequency = 470 MHz. Use a lossless transmission line with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Arial"/>
              </a:rPr>
              <a:t>Z = 50</a:t>
            </a:r>
            <a:r>
              <a:rPr b="1" lang="el-GR" sz="1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1" lang="de-CH" sz="1800" spc="-1" strike="noStrike">
                <a:solidFill>
                  <a:srgbClr val="000000"/>
                </a:solidFill>
                <a:latin typeface="Arial"/>
              </a:rPr>
              <a:t> and a parallel capacitor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189320" y="1903320"/>
            <a:ext cx="4954680" cy="4954680"/>
          </a:xfrm>
          <a:prstGeom prst="rect">
            <a:avLst/>
          </a:prstGeom>
          <a:ln w="0">
            <a:noFill/>
          </a:ln>
        </p:spPr>
      </p:pic>
      <p:sp>
        <p:nvSpPr>
          <p:cNvPr id="113" name="">
            <a:hlinkClick r:id="" action="ppaction://hlinkshowjump?jump=nextslide"/>
          </p:cNvPr>
          <p:cNvSpPr/>
          <p:nvPr/>
        </p:nvSpPr>
        <p:spPr>
          <a:xfrm>
            <a:off x="8607600" y="6480000"/>
            <a:ext cx="536400" cy="378000"/>
          </a:xfrm>
          <a:custGeom>
            <a:avLst/>
            <a:gdLst>
              <a:gd name="textAreaLeft" fmla="*/ 24480 w 536400"/>
              <a:gd name="textAreaRight" fmla="*/ 511920 w 536400"/>
              <a:gd name="textAreaTop" fmla="*/ 24480 h 378000"/>
              <a:gd name="textAreaBottom" fmla="*/ 353520 h 378000"/>
            </a:gdLst>
            <a:ahLst/>
            <a:rect l="textAreaLeft" t="textAreaTop" r="textAreaRight" b="textAreaBottom"/>
            <a:pathLst>
              <a:path w="30643" h="21600">
                <a:moveTo>
                  <a:pt x="0" y="0"/>
                </a:moveTo>
                <a:lnTo>
                  <a:pt x="30643" y="0"/>
                </a:lnTo>
                <a:lnTo>
                  <a:pt x="30643" y="21600"/>
                </a:lnTo>
                <a:lnTo>
                  <a:pt x="0" y="21600"/>
                </a:lnTo>
                <a:close/>
              </a:path>
              <a:path fill="lightenLess" w="30643" h="21600">
                <a:moveTo>
                  <a:pt x="0" y="0"/>
                </a:moveTo>
                <a:lnTo>
                  <a:pt x="30643" y="0"/>
                </a:lnTo>
                <a:lnTo>
                  <a:pt x="29243" y="1400"/>
                </a:lnTo>
                <a:lnTo>
                  <a:pt x="1400" y="1400"/>
                </a:lnTo>
                <a:close/>
              </a:path>
              <a:path fill="darken" w="30643" h="21600">
                <a:moveTo>
                  <a:pt x="30643" y="0"/>
                </a:moveTo>
                <a:lnTo>
                  <a:pt x="30643" y="21600"/>
                </a:lnTo>
                <a:lnTo>
                  <a:pt x="29243" y="20200"/>
                </a:lnTo>
                <a:lnTo>
                  <a:pt x="29243" y="1400"/>
                </a:lnTo>
                <a:close/>
              </a:path>
              <a:path fill="darkenLess" w="30643" h="21600">
                <a:moveTo>
                  <a:pt x="306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243" y="20200"/>
                </a:lnTo>
                <a:close/>
              </a:path>
              <a:path fill="lighten" w="306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643" h="21600">
                <a:moveTo>
                  <a:pt x="8315" y="3794"/>
                </a:moveTo>
                <a:lnTo>
                  <a:pt x="22328" y="10800"/>
                </a:lnTo>
                <a:lnTo>
                  <a:pt x="8315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6AE00-7307-4C47-8393-6B63747EB71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76320"/>
            <a:ext cx="80773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Arial"/>
              </a:rPr>
              <a:t>Smith-Char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4219560" y="1933560"/>
            <a:ext cx="4924440" cy="492444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851040" y="1025640"/>
            <a:ext cx="797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Example 3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" name="">
            <a:hlinkClick r:id="" action="ppaction://hlinkshowjump?jump=nextslide"/>
          </p:cNvPr>
          <p:cNvSpPr/>
          <p:nvPr/>
        </p:nvSpPr>
        <p:spPr>
          <a:xfrm>
            <a:off x="8607600" y="6480000"/>
            <a:ext cx="536400" cy="378000"/>
          </a:xfrm>
          <a:custGeom>
            <a:avLst/>
            <a:gdLst>
              <a:gd name="textAreaLeft" fmla="*/ 24480 w 536400"/>
              <a:gd name="textAreaRight" fmla="*/ 511920 w 536400"/>
              <a:gd name="textAreaTop" fmla="*/ 24480 h 378000"/>
              <a:gd name="textAreaBottom" fmla="*/ 353520 h 378000"/>
            </a:gdLst>
            <a:ahLst/>
            <a:rect l="textAreaLeft" t="textAreaTop" r="textAreaRight" b="textAreaBottom"/>
            <a:pathLst>
              <a:path w="30643" h="21600">
                <a:moveTo>
                  <a:pt x="0" y="0"/>
                </a:moveTo>
                <a:lnTo>
                  <a:pt x="30643" y="0"/>
                </a:lnTo>
                <a:lnTo>
                  <a:pt x="30643" y="21600"/>
                </a:lnTo>
                <a:lnTo>
                  <a:pt x="0" y="21600"/>
                </a:lnTo>
                <a:close/>
              </a:path>
              <a:path fill="lightenLess" w="30643" h="21600">
                <a:moveTo>
                  <a:pt x="0" y="0"/>
                </a:moveTo>
                <a:lnTo>
                  <a:pt x="30643" y="0"/>
                </a:lnTo>
                <a:lnTo>
                  <a:pt x="29243" y="1400"/>
                </a:lnTo>
                <a:lnTo>
                  <a:pt x="1400" y="1400"/>
                </a:lnTo>
                <a:close/>
              </a:path>
              <a:path fill="darken" w="30643" h="21600">
                <a:moveTo>
                  <a:pt x="30643" y="0"/>
                </a:moveTo>
                <a:lnTo>
                  <a:pt x="30643" y="21600"/>
                </a:lnTo>
                <a:lnTo>
                  <a:pt x="29243" y="20200"/>
                </a:lnTo>
                <a:lnTo>
                  <a:pt x="29243" y="1400"/>
                </a:lnTo>
                <a:close/>
              </a:path>
              <a:path fill="darkenLess" w="30643" h="21600">
                <a:moveTo>
                  <a:pt x="306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243" y="20200"/>
                </a:lnTo>
                <a:close/>
              </a:path>
              <a:path fill="lighten" w="306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643" h="21600">
                <a:moveTo>
                  <a:pt x="8315" y="3794"/>
                </a:moveTo>
                <a:lnTo>
                  <a:pt x="22328" y="10800"/>
                </a:lnTo>
                <a:lnTo>
                  <a:pt x="8315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322280" y="1738440"/>
            <a:ext cx="18432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849240" y="1486800"/>
            <a:ext cx="763128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Arial"/>
              </a:rPr>
              <a:t>Replace the capacitor in example 2 with a shorted stub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738360" y="4346640"/>
            <a:ext cx="3487680" cy="1962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63DB9-4938-41B5-A8DB-1E1AA1B686F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76320"/>
            <a:ext cx="80773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Arial"/>
              </a:rPr>
              <a:t>Smith-Char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744480" y="4251240"/>
            <a:ext cx="3392640" cy="190836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851040" y="1025640"/>
            <a:ext cx="797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Example 4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">
            <a:hlinkClick r:id="" action="ppaction://hlinkshowjump?jump=nextslide"/>
          </p:cNvPr>
          <p:cNvSpPr/>
          <p:nvPr/>
        </p:nvSpPr>
        <p:spPr>
          <a:xfrm>
            <a:off x="8607600" y="6480000"/>
            <a:ext cx="536400" cy="378000"/>
          </a:xfrm>
          <a:custGeom>
            <a:avLst/>
            <a:gdLst>
              <a:gd name="textAreaLeft" fmla="*/ 24480 w 536400"/>
              <a:gd name="textAreaRight" fmla="*/ 511920 w 536400"/>
              <a:gd name="textAreaTop" fmla="*/ 24480 h 378000"/>
              <a:gd name="textAreaBottom" fmla="*/ 353520 h 378000"/>
            </a:gdLst>
            <a:ahLst/>
            <a:rect l="textAreaLeft" t="textAreaTop" r="textAreaRight" b="textAreaBottom"/>
            <a:pathLst>
              <a:path w="30643" h="21600">
                <a:moveTo>
                  <a:pt x="0" y="0"/>
                </a:moveTo>
                <a:lnTo>
                  <a:pt x="30643" y="0"/>
                </a:lnTo>
                <a:lnTo>
                  <a:pt x="30643" y="21600"/>
                </a:lnTo>
                <a:lnTo>
                  <a:pt x="0" y="21600"/>
                </a:lnTo>
                <a:close/>
              </a:path>
              <a:path fill="lightenLess" w="30643" h="21600">
                <a:moveTo>
                  <a:pt x="0" y="0"/>
                </a:moveTo>
                <a:lnTo>
                  <a:pt x="30643" y="0"/>
                </a:lnTo>
                <a:lnTo>
                  <a:pt x="29243" y="1400"/>
                </a:lnTo>
                <a:lnTo>
                  <a:pt x="1400" y="1400"/>
                </a:lnTo>
                <a:close/>
              </a:path>
              <a:path fill="darken" w="30643" h="21600">
                <a:moveTo>
                  <a:pt x="30643" y="0"/>
                </a:moveTo>
                <a:lnTo>
                  <a:pt x="30643" y="21600"/>
                </a:lnTo>
                <a:lnTo>
                  <a:pt x="29243" y="20200"/>
                </a:lnTo>
                <a:lnTo>
                  <a:pt x="29243" y="1400"/>
                </a:lnTo>
                <a:close/>
              </a:path>
              <a:path fill="darkenLess" w="30643" h="21600">
                <a:moveTo>
                  <a:pt x="306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243" y="20200"/>
                </a:lnTo>
                <a:close/>
              </a:path>
              <a:path fill="lighten" w="306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643" h="21600">
                <a:moveTo>
                  <a:pt x="8315" y="3794"/>
                </a:moveTo>
                <a:lnTo>
                  <a:pt x="22328" y="10800"/>
                </a:lnTo>
                <a:lnTo>
                  <a:pt x="8315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322280" y="1738440"/>
            <a:ext cx="18432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849240" y="1486800"/>
            <a:ext cx="763128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Arial"/>
              </a:rPr>
              <a:t>Replace shorted stub in example 3 with an open stub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4130640" y="1844640"/>
            <a:ext cx="5013360" cy="5013360"/>
          </a:xfrm>
          <a:prstGeom prst="rect">
            <a:avLst/>
          </a:prstGeom>
          <a:ln w="0">
            <a:noFill/>
          </a:ln>
        </p:spPr>
      </p:pic>
      <p:sp>
        <p:nvSpPr>
          <p:cNvPr id="128" name="">
            <a:hlinkClick r:id="" action="ppaction://hlinkshowjump?jump=nextslide"/>
          </p:cNvPr>
          <p:cNvSpPr/>
          <p:nvPr/>
        </p:nvSpPr>
        <p:spPr>
          <a:xfrm>
            <a:off x="8607600" y="6480000"/>
            <a:ext cx="536400" cy="378000"/>
          </a:xfrm>
          <a:custGeom>
            <a:avLst/>
            <a:gdLst>
              <a:gd name="textAreaLeft" fmla="*/ 24480 w 536400"/>
              <a:gd name="textAreaRight" fmla="*/ 511920 w 536400"/>
              <a:gd name="textAreaTop" fmla="*/ 24480 h 378000"/>
              <a:gd name="textAreaBottom" fmla="*/ 353520 h 378000"/>
            </a:gdLst>
            <a:ahLst/>
            <a:rect l="textAreaLeft" t="textAreaTop" r="textAreaRight" b="textAreaBottom"/>
            <a:pathLst>
              <a:path w="30643" h="21600">
                <a:moveTo>
                  <a:pt x="0" y="0"/>
                </a:moveTo>
                <a:lnTo>
                  <a:pt x="30643" y="0"/>
                </a:lnTo>
                <a:lnTo>
                  <a:pt x="30643" y="21600"/>
                </a:lnTo>
                <a:lnTo>
                  <a:pt x="0" y="21600"/>
                </a:lnTo>
                <a:close/>
              </a:path>
              <a:path fill="lightenLess" w="30643" h="21600">
                <a:moveTo>
                  <a:pt x="0" y="0"/>
                </a:moveTo>
                <a:lnTo>
                  <a:pt x="30643" y="0"/>
                </a:lnTo>
                <a:lnTo>
                  <a:pt x="29243" y="1400"/>
                </a:lnTo>
                <a:lnTo>
                  <a:pt x="1400" y="1400"/>
                </a:lnTo>
                <a:close/>
              </a:path>
              <a:path fill="darken" w="30643" h="21600">
                <a:moveTo>
                  <a:pt x="30643" y="0"/>
                </a:moveTo>
                <a:lnTo>
                  <a:pt x="30643" y="21600"/>
                </a:lnTo>
                <a:lnTo>
                  <a:pt x="29243" y="20200"/>
                </a:lnTo>
                <a:lnTo>
                  <a:pt x="29243" y="1400"/>
                </a:lnTo>
                <a:close/>
              </a:path>
              <a:path fill="darkenLess" w="30643" h="21600">
                <a:moveTo>
                  <a:pt x="306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243" y="20200"/>
                </a:lnTo>
                <a:close/>
              </a:path>
              <a:path fill="lighten" w="306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643" h="21600">
                <a:moveTo>
                  <a:pt x="8315" y="3794"/>
                </a:moveTo>
                <a:lnTo>
                  <a:pt x="22328" y="10800"/>
                </a:lnTo>
                <a:lnTo>
                  <a:pt x="8315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33BD2-E7F7-4A39-9A60-D5B1BB77CD6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29T13:15:28Z</dcterms:created>
  <dc:creator>Fritz Dellsperger</dc:creator>
  <dc:description/>
  <dc:language>en-US</dc:language>
  <cp:lastModifiedBy>Fritz Dellsperger</cp:lastModifiedBy>
  <dcterms:modified xsi:type="dcterms:W3CDTF">2008-05-07T22:20:53Z</dcterms:modified>
  <cp:revision>151</cp:revision>
  <dc:subject/>
  <dc:title>PowerPoint-Präsentation</dc:title>
</cp:coreProperties>
</file>